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4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01B-4BFE-4BA0-BA7E-29E9A023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6B6-D4A7-4EF5-A755-2A939F1A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08F-AEE9-4971-872B-83AD5A06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0492-F2C4-453E-8597-41EFE243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02F-BA6B-497C-8D94-D55B67B6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F11-642E-4EB8-91A3-D1272F1D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82E-16AB-41B5-870A-2DDF044B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873-4F08-462F-BE5D-0A6A5112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6D2-53BD-4D01-80B4-D6F802A7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A26-202D-4C08-BA1A-CC16E3EF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9F0-AA79-44B8-A1E5-46E93F21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E13-2190-4D05-A725-6822F7CE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A94A-4C1A-43FB-A2D7-2CC8C7F9CF59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00F6-63B4-4F70-BC7F-9FBD53D9AD75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/imgres?imgurl=http://www.bestwindowinc.com/_img/products/vinyl_windows/hopper/hopper.jpg&amp;imgrefurl=http://www.bestwindowinc.com/products/vinyl_windows/hopper/hopper.htm&amp;h=214&amp;w=300&amp;sz=13&amp;hl=en&amp;start=6&amp;um=1&amp;tbnid=Ic4G20cpKapIlM:&amp;tbnh=83&amp;tbnw=116&amp;prev=/images%3Fq%3Dhopper%2Bwindows%26um%3D1%26hl%3Den%26safe%3Dactive%26sa%3DN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om/imgres?imgurl=http://www.jctonnotti.com/Assets/hopper_awning_1.jpg&amp;imgrefurl=http://www.jctonnotti.com/content/Windows/hopper_window.asp&amp;h=200&amp;w=300&amp;sz=31&amp;hl=en&amp;start=27&amp;um=1&amp;tbnid=oK1DtVrasDYI9M:&amp;tbnh=77&amp;tbnw=116&amp;prev=/images%3Fq%3Dhopper%2Bwindows%26start%3D20%26ndsp%3D20%26um%3D1%26hl%3Den%26safe%3Dactive%26sa%3DN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www.betterwaywindows.com/images/Vinyl_Window/big/basement_windows_4-440.jpg&amp;imgrefurl=http://www.betterwaywindows.com/windows.php&amp;usg=__mu84QqOM8tn6BVnzEwrnwRJJY1g=&amp;h=318&amp;w=432&amp;sz=43&amp;hl=en&amp;start=10&amp;tbnid=yfXEbwRXyejBJM:&amp;tbnh=93&amp;tbnw=126&amp;prev=/images%3Fq%3Dhopper%2Bwindows%26gbv%3D2%26hl%3Den%26safe%3Dactive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google.com/imgres?imgurl=http://img2.timeinc.net/toh/i/a/buyersguide/windows-2-05.jpg&amp;imgrefurl=http://www.thisoldhouse.com/toh/article/0,,419997,00.html&amp;usg=__vFEMzsOaOh8Dntm95PnjLOh-ZN4=&amp;h=300&amp;w=300&amp;sz=20&amp;hl=en&amp;start=14&amp;tbnid=VOu8wIa6U8A8UM:&amp;tbnh=116&amp;tbnw=116&amp;prev=/images%3Fq%3Dhopper%2Bwindows%26gbv%3D2%26hl%3Den%26safe%3Dactive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sturdi-built.com/images/jalwindow.jpg&amp;imgrefurl=http://www.sturdi-built.com/greenhouse-options/greenhouse-jalousie-windows.php&amp;h=243&amp;w=320&amp;sz=17&amp;hl=en&amp;start=2&amp;um=1&amp;tbnid=VJxU-YdqXlXYWM:&amp;tbnh=90&amp;tbnw=118&amp;prev=/images%3Fq%3Djalousie%2Bwindows%26um%3D1%26hl%3Den%26safe%3Dactive%26sa%3D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hyperlink" Target="http://images.google.com/imgres?imgurl=http://www.infolink.com.au/odin/images/205965/Glass-Louvre-Windows-by-Safetyline-Jalousie-205965.jpg&amp;imgrefurl=http://www.infolink.com.au/c/Safetyline-Jalousie/Glass-Louvre-Windows-by-Safetyline-Jalousie-p15430&amp;usg=__o7KIofnJferiCUTF55NmpIgmduk=&amp;h=255&amp;w=255&amp;sz=20&amp;hl=en&amp;start=13&amp;tbnid=ZKbfc_RkjFjC6M:&amp;tbnh=111&amp;tbnw=111&amp;prev=/images%3Fq%3Djalousie%2Bwindows%26gbv%3D2%26hl%3Den%26safe%3Dactive%26sa%3D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lh6.ggpht.com/_gj6xxzAZYnA/Sb3TTiJWYkI/AAAAAAAAAKQ/8XbhokCpDEk/HolidayHouse4Sales_74.jpg&amp;imgrefurl=http://picasaweb.google.com/lh/photo/wbSi9LNWw-q4wmTDuj-a2w&amp;usg=__wPaKUX2kYJ83kwDYAvD00k3vCTo=&amp;h=599&amp;w=899&amp;sz=12&amp;hl=en&amp;start=30&amp;tbnid=IZ7V9n1fd4__qM:&amp;tbnh=97&amp;tbnw=146&amp;prev=/images%3Fq%3Djalousie%2Bwindows%26gbv%3D2%26ndsp%3D18%26hl%3Den%26safe%3Dactive%26sa%3DN%26start%3D18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thevap.com/blog/wp-content/uploads/2006/11/pict0070d.jpg&amp;imgrefurl=http://thevap.com/blog/%3Fp%3D236&amp;usg=__TmqJB5w1cg8CVgOTtHDY41vJIK8=&amp;h=300&amp;w=400&amp;sz=42&amp;hl=en&amp;start=44&amp;tbnid=HXMkZ2mtZYw0NM:&amp;tbnh=93&amp;tbnw=124&amp;prev=/images%3Fq%3Djalousie%2Bwindows%26gbv%3D2%26ndsp%3D18%26hl%3Den%26safe%3Dactive%26sa%3DN%26start%3D36" TargetMode="External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ountrycurtains.com/shopping/product/detailmain.jsp?itemID=2579&amp;itemType=PRODUCT&amp;iMainCat=104&amp;iSubCat=180&amp;iProductID=2579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www.countrycurtains.com/shopping/product/detailmain.jsp?itemID=2450&amp;itemType=PRODUCT&amp;iMainCat=104&amp;iSubCat=180&amp;iProductID=2450" TargetMode="External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lindsanddrapery.com/window-treatments/discount-draperies-panels/98.cfm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hadesshuttersblinds.com/images/Z-FrameShutter1.jpg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countrycurtains.com/jump.jsp?itemID=2915&amp;itemType=PRODUCT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nteriormall.com/cat/display.asp?c1=Window+Treatments&amp;c2=Fabric+Cornices" TargetMode="External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interiormall.com/cat/sample.asp?ID=F515-austrian-swag-cascades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www.interiormall.com/cat/sample.asp?ID=F515-casual-swag" TargetMode="External"/><Relationship Id="rId4" Type="http://schemas.openxmlformats.org/officeDocument/2006/relationships/image" Target="../media/image43.jpeg"/><Relationship Id="rId5" Type="http://schemas.openxmlformats.org/officeDocument/2006/relationships/hyperlink" Target="http://www.interiormall.com/cat/sample.asp?ID=F515-drapery-swag" TargetMode="External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03 Windows and Window Treat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8F85-7241-4D1B-82DD-41B74340D076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Rectangle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99D2-BD39-4F52-A4CC-0FDF64657F76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" name="Picture 8" descr="ABCD"/>
          <p:cNvPicPr/>
          <p:nvPr/>
        </p:nvPicPr>
        <p:blipFill>
          <a:blip r:embed="rId1"/>
          <a:stretch/>
        </p:blipFill>
        <p:spPr>
          <a:xfrm>
            <a:off x="6781680" y="44956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ment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97FE-C89E-480C-8373-798DFDEBC159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69A9-4264-4AB9-8B67-DC91E2AF8A28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6" name="Picture 5" descr="Win-Dor replacement windows and doors - Casement Windows"/>
          <p:cNvPicPr/>
          <p:nvPr/>
        </p:nvPicPr>
        <p:blipFill>
          <a:blip r:embed="rId2"/>
          <a:stretch/>
        </p:blipFill>
        <p:spPr>
          <a:xfrm>
            <a:off x="2209680" y="2057400"/>
            <a:ext cx="42865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wning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4EB3-D64E-4B29-AE79-2F4E5E400271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3192-B81F-4E76-9CBB-F4D6C02ACAFA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1" name="Picture 7" descr="BlobServer?blobcol=urldata&amp;blobtable=MungoBlobs&amp;blobkey=id&amp;blobwhere=1197520678820&amp;blobheader=image%2Fjpeg"/>
          <p:cNvPicPr/>
          <p:nvPr/>
        </p:nvPicPr>
        <p:blipFill>
          <a:blip r:embed="rId1"/>
          <a:stretch/>
        </p:blipFill>
        <p:spPr>
          <a:xfrm>
            <a:off x="5334120" y="1371600"/>
            <a:ext cx="3581280" cy="3009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BlobServer?blobcol=urldata&amp;blobtable=MungoBlobs&amp;blobkey=id&amp;blobwhere=1197520678319&amp;blobheader=image%2Fjpeg&amp;blobnocache=false"/>
          <p:cNvPicPr/>
          <p:nvPr/>
        </p:nvPicPr>
        <p:blipFill>
          <a:blip r:embed="rId2"/>
          <a:stretch/>
        </p:blipFill>
        <p:spPr>
          <a:xfrm>
            <a:off x="1066680" y="1828800"/>
            <a:ext cx="35528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inging windows (con’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p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Hinged at the bottom to allow the top of the sash to swing in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Jalousi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series of horizontal adjustable glass slats fastened into a metal frame. (think of mini-blinds made of glass) Open and close with a crank to allow ventilation. Screens &amp; storms windows are needed for protection from insects or wea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F486-3EDD-49DB-AE82-854B27805D3A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4533-0507-4303-B443-E8545C3DFD77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pper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6262-C851-4FE0-9655-486D7502530D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BC1D-1246-4B48-8627-D1FBBD106E9E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3" name="Picture 11" descr="Hopper Window"/>
          <p:cNvPicPr/>
          <p:nvPr/>
        </p:nvPicPr>
        <p:blipFill>
          <a:blip r:embed="rId2"/>
          <a:stretch/>
        </p:blipFill>
        <p:spPr>
          <a:xfrm>
            <a:off x="1447920" y="2438280"/>
            <a:ext cx="1190520" cy="933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hopp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3880" y="4572000"/>
            <a:ext cx="1105200" cy="790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hopper_awning_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33920" y="2362320"/>
            <a:ext cx="1447560" cy="1266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9" descr="basement_windows_4-44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2209680"/>
            <a:ext cx="1200240" cy="885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1" descr="windows-2-0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419720" y="434340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lousie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7F18-50A4-4D11-9007-51673053B908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11F4-640D-4733-96B1-9E965AF59A26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3" name="Picture 5" descr="jalwind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2133720"/>
            <a:ext cx="1447560" cy="190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ewtype04"/>
          <p:cNvPicPr/>
          <p:nvPr/>
        </p:nvPicPr>
        <p:blipFill>
          <a:blip r:embed="rId4"/>
          <a:stretch/>
        </p:blipFill>
        <p:spPr>
          <a:xfrm>
            <a:off x="7391520" y="3048120"/>
            <a:ext cx="1143000" cy="1733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Glass-Louvre-Windows-by-Safetyline-Jalousie-2059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28800" y="45720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HolidayHouse4Sales_7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267080" y="2286000"/>
            <a:ext cx="1390680" cy="923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pict0070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419720" y="4114800"/>
            <a:ext cx="118116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A297-7F41-4507-9732-7015E0C796CA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B236-435B-4496-82B5-41796CCF024E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3" name="Picture 5" descr="img_7152"/>
          <p:cNvPicPr/>
          <p:nvPr/>
        </p:nvPicPr>
        <p:blipFill>
          <a:blip r:embed="rId2"/>
          <a:stretch/>
        </p:blipFill>
        <p:spPr>
          <a:xfrm>
            <a:off x="2819520" y="838080"/>
            <a:ext cx="41432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xed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t light and provide a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rectangular, oval, half-round, round, ar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ass blocks provide light while providing priv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8449-F835-4B50-8A73-4868BE471EDF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E794-2EB5-4C90-9653-AC21098DC268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xed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555B-2D65-415A-82AD-8B8F45310B25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42C9-BC51-4567-9970-77C8EAEBD5FC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4" name="Picture 5" descr="fixed_01"/>
          <p:cNvPicPr/>
          <p:nvPr/>
        </p:nvPicPr>
        <p:blipFill>
          <a:blip r:embed="rId2"/>
          <a:stretch/>
        </p:blipFill>
        <p:spPr>
          <a:xfrm>
            <a:off x="2590920" y="2590920"/>
            <a:ext cx="48387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bination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windows used with other types of window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: hopper window used above a fix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ments used on either side o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fixed 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AY window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combination window that has large fixed windows and double-hung windows on either s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0BA7-D306-46ED-B3BC-6B6CE6B2D611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AD74-72C9-425E-BB67-48AE19EF65D7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y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EF3A-7218-4C98-9790-921DA498D7F2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EE3B-4807-4BC5-901D-64C58905E117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5" name="Picture 5" descr="Bay Window"/>
          <p:cNvPicPr/>
          <p:nvPr/>
        </p:nvPicPr>
        <p:blipFill>
          <a:blip r:embed="rId2"/>
          <a:stretch/>
        </p:blipFill>
        <p:spPr>
          <a:xfrm>
            <a:off x="1828800" y="26668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BlobServer?blobcol=urldata&amp;blobtable=MungoBlobs&amp;blobkey=id&amp;blobwhere=1197520678757&amp;blobheader=image%2Fjpeg"/>
          <p:cNvPicPr/>
          <p:nvPr/>
        </p:nvPicPr>
        <p:blipFill>
          <a:blip r:embed="rId3"/>
          <a:stretch/>
        </p:blipFill>
        <p:spPr>
          <a:xfrm>
            <a:off x="4343400" y="2286000"/>
            <a:ext cx="35812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s of window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natural light, air circulation, 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e as focal point of room or 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elp conserve energy and prevent heating and cooling l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made of high-impact glass to prevent breakage during st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A8C7-1FB9-40FA-8F19-0067761AE43A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9641-4C5D-4A3B-AA12-DE86DE496B20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lights &amp; Clere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let light into areas that get little or no light…usually do not 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ylights are located in ceiling or ro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restory windows are located high on wa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885E-52F1-4441-91BC-AE60B199689D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80A3-52ED-4FB7-87E2-7F069DF5D8EB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lights &amp; Clere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8181-0FC6-45F8-8E55-61E4FB331DA3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53B9-8BB5-4D1E-BF34-1C8BAC572DA0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7" name="Picture 5" descr="Skylight"/>
          <p:cNvPicPr/>
          <p:nvPr/>
        </p:nvPicPr>
        <p:blipFill>
          <a:blip r:embed="rId2"/>
          <a:stretch/>
        </p:blipFill>
        <p:spPr>
          <a:xfrm>
            <a:off x="121932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Clerestory Windows"/>
          <p:cNvPicPr/>
          <p:nvPr/>
        </p:nvPicPr>
        <p:blipFill>
          <a:blip r:embed="rId3"/>
          <a:stretch/>
        </p:blipFill>
        <p:spPr>
          <a:xfrm>
            <a:off x="6248520" y="1981080"/>
            <a:ext cx="1904760" cy="1781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saltbox_celestory_windows"/>
          <p:cNvPicPr/>
          <p:nvPr/>
        </p:nvPicPr>
        <p:blipFill>
          <a:blip r:embed="rId4"/>
          <a:stretch/>
        </p:blipFill>
        <p:spPr>
          <a:xfrm>
            <a:off x="3962520" y="3581280"/>
            <a:ext cx="4400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t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t fabric panels constructed of unlined fabric or lace. May be sheer to medium we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wide variety of colors, patterns, &amp; tex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stay closed or opened on a r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BB0D-A52A-4279-8AD2-D7162649144E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FC45-2142-4704-8BEB-148D4269687C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curt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788E-3637-445E-AB6E-64444FFDEAD9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4F71-A6E4-426D-9220-7CBEE1646CAD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Picture 5" descr="010380266_t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981080"/>
            <a:ext cx="2895480" cy="3581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0103H40B_th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00200" y="1981080"/>
            <a:ext cx="2743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pe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lined with another fabr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ing adds body, increases insulation, helps drapes hang better, blocks sunlight and helps to avoid fading of drapery fabr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sually more formal and will extend to the fl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93DC-04A2-42D2-A71F-1AE4711C919D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F591-2C67-4289-9BC8-78B784B17663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7" name="Picture 3" descr="Click image to learn more about pinch pleat drape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04920"/>
            <a:ext cx="220968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d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very plain or or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fit regular windows as well as oval or arched windows. Can also fit skyligh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DC17-F319-4B11-983E-BE3EFB6257A7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AEFF-99FA-4812-80ED-3E6B8985ED5F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de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oller sha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mounted at top of window, made of cloth or vinyl, can have fabric or wallpaper laminated on them for decorative effect. Can be light-filtering, room-darkening, or heat resi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FFB8-E263-4B2D-84AF-3EDDB997FB8C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1B09-7919-4DDE-975F-72852D567253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8" name="Picture 9" descr="image_1144686286"/>
          <p:cNvPicPr/>
          <p:nvPr/>
        </p:nvPicPr>
        <p:blipFill>
          <a:blip r:embed="rId1"/>
          <a:stretch/>
        </p:blipFill>
        <p:spPr>
          <a:xfrm>
            <a:off x="5638680" y="4724280"/>
            <a:ext cx="266724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man Sh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es flat against the window when down and is drawn up into a series of horizontal fo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28E6-5ACE-456B-95D1-8DC3E529BAB0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5C05-B61F-450C-A14C-63800FF1DE4F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059280" y="1654200"/>
          <a:ext cx="3025440" cy="3549600"/>
        </p:xfrm>
        <a:graphic>
          <a:graphicData uri="http://schemas.openxmlformats.org/drawingml/2006/table">
            <a:tbl>
              <a:tblPr/>
              <a:tblGrid>
                <a:gridCol w="30254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068640" y="2171880"/>
          <a:ext cx="3033720" cy="3022560"/>
        </p:xfrm>
        <a:graphic>
          <a:graphicData uri="http://schemas.openxmlformats.org/drawingml/2006/table">
            <a:tbl>
              <a:tblPr/>
              <a:tblGrid>
                <a:gridCol w="2817720"/>
                <a:gridCol w="216000"/>
              </a:tblGrid>
              <a:tr h="30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 Sh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078000" y="2181240"/>
          <a:ext cx="2833920" cy="3032280"/>
        </p:xfrm>
        <a:graphic>
          <a:graphicData uri="http://schemas.openxmlformats.org/drawingml/2006/table">
            <a:tbl>
              <a:tblPr/>
              <a:tblGrid>
                <a:gridCol w="2833920"/>
              </a:tblGrid>
              <a:tr h="251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Picture 10" descr="image_1144685664"/>
          <p:cNvPicPr/>
          <p:nvPr/>
        </p:nvPicPr>
        <p:blipFill>
          <a:blip r:embed="rId1"/>
          <a:stretch/>
        </p:blipFill>
        <p:spPr>
          <a:xfrm>
            <a:off x="4038480" y="3657600"/>
            <a:ext cx="257184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ut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ginally designed to keep out heat &amp;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ell with traditional dec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cover part or all of the window, usually made of wood, are hinged together like a folding d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35F1-5033-41BE-9B6E-E9727B31435B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1C07-D29C-4321-B740-DAD051E7A90C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ut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DE98-A538-43FA-B0FA-DB4CF5DF6F8C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08CE-A504-4DD8-BE6D-540637700FB2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7" name="Picture 6" descr="shutt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81080"/>
            <a:ext cx="2895480" cy="3581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Horizon Shutters - plantation window shutters"/>
          <p:cNvPicPr/>
          <p:nvPr/>
        </p:nvPicPr>
        <p:blipFill>
          <a:blip r:embed="rId3"/>
          <a:stretch/>
        </p:blipFill>
        <p:spPr>
          <a:xfrm>
            <a:off x="5105520" y="1981080"/>
            <a:ext cx="3524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s of the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: perimeter of window that fits into 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sh: holds the glass &amp; swings or slides open. May be divided into small sections  by wooden dividers calle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nt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ll: bottom of the 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ron: horizontal board underneath a window below the s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66CE-FBF2-4BDE-A58D-A7E2E53741BE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BBA7-7A0D-42A5-BE32-006D21C8D5E4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ind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of a series of evenly spaced slats that can be opened or closed by cor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llow privacy or let in as much light as needed but tedious to cl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izontal blinds (Venetian) have horizontal slats, usually 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ical blinds have vertical slats (patio doo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9536-5758-48EA-B1C3-3EE8D1A7FABF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1A72-30BA-4D17-83E8-65C1DC07096B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i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F002-0B16-473C-9B79-74F0E3AD4E4E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BA71-B208-446F-867F-A420069F1A90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8" name="Picture 6" descr="Vertical Blinds, Vertical Window Blinds at Blindsgalore"/>
          <p:cNvPicPr/>
          <p:nvPr/>
        </p:nvPicPr>
        <p:blipFill>
          <a:blip r:embed="rId1"/>
          <a:stretch/>
        </p:blipFill>
        <p:spPr>
          <a:xfrm>
            <a:off x="1523880" y="1676520"/>
            <a:ext cx="4953240" cy="1600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Mini Blinds and Micro Blinds at Blindsgalore"/>
          <p:cNvPicPr/>
          <p:nvPr/>
        </p:nvPicPr>
        <p:blipFill>
          <a:blip r:embed="rId2"/>
          <a:stretch/>
        </p:blipFill>
        <p:spPr>
          <a:xfrm>
            <a:off x="1676520" y="4114800"/>
            <a:ext cx="45910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orative top treat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decorative purposes and to hide drapery/curtain hardw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ence: short length of fabric placed across the top of window. Can use alone or with other treat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is gathered for a full look and matches the other treat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36E6-0F10-4726-9290-4864FDC04F1F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7E99-BDB7-4A40-93C1-CF3C055BDE10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9B55-BD54-4AA4-A111-6796C8C14A91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F471-02C0-49D5-BAA7-804603B13343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9" name="Picture 6" descr="TOP TREATMENTS, VALANCES &amp; WINDOW TOPPERS"/>
          <p:cNvPicPr/>
          <p:nvPr/>
        </p:nvPicPr>
        <p:blipFill>
          <a:blip r:embed="rId1"/>
          <a:stretch/>
        </p:blipFill>
        <p:spPr>
          <a:xfrm>
            <a:off x="1295280" y="1752480"/>
            <a:ext cx="2828880" cy="3038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Roosters Layered Valance over tier curta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1905120"/>
            <a:ext cx="2828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nic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purpose as valance but has more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made of wood, painted or s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padded and covered with fabr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DBFD-5AF0-4137-98E1-FE3E73A38DA9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8059-8ACB-426C-97A7-AB6DE7991219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n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2456-4D67-4144-8A1C-B384A60299FE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3D4B-23E4-4BE2-85B1-1FF1550870F9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0" name="Picture 8" descr="Wood Cornice Boards, Upholstered Cornices, Fabric Cornic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133720"/>
            <a:ext cx="2057400" cy="1904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Fabric Cornice Board 1"/>
          <p:cNvPicPr/>
          <p:nvPr/>
        </p:nvPicPr>
        <p:blipFill>
          <a:blip r:embed="rId3"/>
          <a:stretch/>
        </p:blipFill>
        <p:spPr>
          <a:xfrm>
            <a:off x="5105520" y="1905120"/>
            <a:ext cx="2895480" cy="2057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Cornice Picture 1"/>
          <p:cNvPicPr/>
          <p:nvPr/>
        </p:nvPicPr>
        <p:blipFill>
          <a:blip r:embed="rId4"/>
          <a:stretch/>
        </p:blipFill>
        <p:spPr>
          <a:xfrm>
            <a:off x="1981080" y="4572000"/>
            <a:ext cx="2743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ece of fabric that is draped gracefully across the top of window. Attached to both sides of window frame at 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62CF-95BF-4B57-A6B9-474194591105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3A8D-8E90-4DA9-AE11-BEB091EE184B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37AD-926D-49C6-AF8A-15EE9C6E0378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6E8F-F344-4411-8D99-9D76F329DA65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2" name="Picture 6" descr="Drapery Styles AUSTRIAN SWAG CASCADES In Sto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981080"/>
            <a:ext cx="2057400" cy="3143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Drapery Styles CASUAL SWAG In Stoc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1981080"/>
            <a:ext cx="1905120" cy="3219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Drapery Styles DRAPERY SWAG In Stoc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2057400"/>
            <a:ext cx="1905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gs (con’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3580-6F62-455C-89CD-1105F519477D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36AE-24D7-4C1D-9686-A1B544C0C333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9" name="Picture 6" descr="Drapery Styles EMPIRE POLE SWAG In Stock"/>
          <p:cNvPicPr/>
          <p:nvPr/>
        </p:nvPicPr>
        <p:blipFill>
          <a:blip r:embed="rId1"/>
          <a:stretch/>
        </p:blipFill>
        <p:spPr>
          <a:xfrm>
            <a:off x="1143000" y="2286000"/>
            <a:ext cx="2057400" cy="2895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Drapery Styles EUROPEAN SWAG CASCADES In Stock"/>
          <p:cNvPicPr/>
          <p:nvPr/>
        </p:nvPicPr>
        <p:blipFill>
          <a:blip r:embed="rId2"/>
          <a:stretch/>
        </p:blipFill>
        <p:spPr>
          <a:xfrm>
            <a:off x="3657600" y="2209680"/>
            <a:ext cx="1905120" cy="2971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Drapery Styles Open Swag In Stock"/>
          <p:cNvPicPr/>
          <p:nvPr/>
        </p:nvPicPr>
        <p:blipFill>
          <a:blip r:embed="rId3"/>
          <a:stretch/>
        </p:blipFill>
        <p:spPr>
          <a:xfrm>
            <a:off x="6172200" y="2209680"/>
            <a:ext cx="1905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using Decisions   pages 379-38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s and Interiors  pages 563-56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countrycurtains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domestications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fabricworkroom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budgetblinds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hgtv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hunterdouglas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bestwindowtreatments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yright ©2007, ABCD, All rights reser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D70A-72D7-4C44-951A-D9A50E85EE1D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E2AA-D648-4379-9229-F655DCB0EBA4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F223-8B58-4051-A32B-924A5E49677B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259C-B985-41A2-9505-5E5D1F90A4A3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1" name="Picture 5" descr="147"/>
          <p:cNvPicPr/>
          <p:nvPr/>
        </p:nvPicPr>
        <p:blipFill>
          <a:blip r:embed="rId1"/>
          <a:stretch/>
        </p:blipFill>
        <p:spPr>
          <a:xfrm>
            <a:off x="3124080" y="2133720"/>
            <a:ext cx="40388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in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other types are based on these thre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8DF7-0B38-4D40-B0DB-11AF54A74F91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DAF9-ABEB-441F-971C-DE3BC9B9C217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ing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e either vertically or horizont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ouble-hung wind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most common window, opens vertically from top or bottom. Provides an opening for half the size of wind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rizontal-sli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has 2-3 sash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sash windows has 1 sash that slides and the other stays fix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3EC4-E8B3-4C3D-AF44-F5FE7D781761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3E09-63B6-4A2F-A151-A52053392C31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uble Hung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BA60-E280-4E59-A27A-08669793734E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A965-4D92-475F-BCCD-5A35B74F3D43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7" name="Picture 7" descr="Vinyl Double-Hung Windows viewed from a porch"/>
          <p:cNvPicPr/>
          <p:nvPr/>
        </p:nvPicPr>
        <p:blipFill>
          <a:blip r:embed="rId2"/>
          <a:stretch/>
        </p:blipFill>
        <p:spPr>
          <a:xfrm>
            <a:off x="1752480" y="2362320"/>
            <a:ext cx="2514600" cy="321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dh_01"/>
          <p:cNvPicPr/>
          <p:nvPr/>
        </p:nvPicPr>
        <p:blipFill>
          <a:blip r:embed="rId3"/>
          <a:stretch/>
        </p:blipFill>
        <p:spPr>
          <a:xfrm>
            <a:off x="4572000" y="220968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izontal Sli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DAE6-1F52-4B39-958C-7F33C4C1ED23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1711-C2A0-40FF-AFE0-52B7ABCD489A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4" name="Picture 5" descr="img_p_hs"/>
          <p:cNvPicPr/>
          <p:nvPr/>
        </p:nvPicPr>
        <p:blipFill>
          <a:blip r:embed="rId2"/>
          <a:stretch/>
        </p:blipFill>
        <p:spPr>
          <a:xfrm>
            <a:off x="1295280" y="2743200"/>
            <a:ext cx="2514600" cy="2171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in-Dor replacement windows and doors - Horizontal Sliding Windows"/>
          <p:cNvPicPr/>
          <p:nvPr/>
        </p:nvPicPr>
        <p:blipFill>
          <a:blip r:embed="rId3"/>
          <a:stretch/>
        </p:blipFill>
        <p:spPr>
          <a:xfrm>
            <a:off x="4267080" y="2286000"/>
            <a:ext cx="4286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inging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se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open and close with a crank, swing outward. Usually the entire window area can be opened for ventil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w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wing outward from the bottom and are hinged at the top. Provides protection from the rain. Usually found in basemen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3F50-8451-4482-84DC-FE793B95EB47}" type="datetime">
              <a:rPr b="0" lang="en-US" sz="1200" spc="-1" strike="noStrike">
                <a:solidFill>
                  <a:srgbClr val="898989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 Narrow"/>
              </a:rPr>
              <a:t>SBrooks  2006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7C55-C8B8-43C6-8B8E-0362A2426767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.brooks</cp:lastModifiedBy>
  <dcterms:modified xsi:type="dcterms:W3CDTF">2010-10-07T13:27:37Z</dcterms:modified>
  <cp:revision>20</cp:revision>
  <dc:subject/>
  <dc:title>PowerPoint Presentation</dc:title>
</cp:coreProperties>
</file>